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A7F4-07EB-409C-A626-68B01941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7C48-C756-4AA9-83F5-F66FF7F9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B49A-0FFA-4BA2-BD94-9EA5C638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AD6-A72C-4BF8-8231-D7E0C2FF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C1A4-D21E-4B8A-AF7C-D0A1EC9E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75D-DC1F-45D5-9FD8-308755FA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2626-D8FF-434F-92AD-6DC46240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F04-F64B-4129-AAAE-06DD58A8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D69-ADE1-4CCF-8431-1210D443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5339-2B9B-4B3B-B8C8-F6C0D6C1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9DB-6831-4704-872B-B627D704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FAC3-FD55-4BC1-B5D4-5CF30301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F046-21B1-437F-8B07-C97AF5DA1CD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800" spc="-1" strike="noStrike">
                <a:solidFill>
                  <a:srgbClr val="000000"/>
                </a:solidFill>
                <a:latin typeface="Calibri"/>
              </a:rPr>
              <a:t>Tropical Storm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Other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Otherwise known as hurricanes, cyclones, typhoons, and wily willies (the Australian name!)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se are very intense areas of very low pressure, approximately 500 to 1000 kilometres in diameter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Tropical storms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form over water that is above 26.5°C in temperature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warm water heats the air above it, causing it to rise rapidly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ooler air from elsewhere rapidly moves in to replace the rising air and the process starts again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How Do They Occu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rapidly rising moist air, cools as it ascends and forms tall cumulo-nimbus cloud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se slowly spin around the central poin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et streams above the storm clouds continue to suck the air up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oling air sinks down through the spiralling mass of clouds to produce a central eye of the stor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opical storms move quickly over water, as long as it is warms enough to keep the storm energise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ce over land, where there is less moisture and the surface is cooler, tropical storms quickly calm dow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weatherwizkids.com/Hurricane_formation.gif"/>
          <p:cNvPicPr/>
          <p:nvPr/>
        </p:nvPicPr>
        <p:blipFill>
          <a:blip r:embed="rId1"/>
          <a:stretch/>
        </p:blipFill>
        <p:spPr>
          <a:xfrm>
            <a:off x="324000" y="189000"/>
            <a:ext cx="8512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the storm approached there would be a drop in temperature and press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d speeds would begin to increase and clouds would f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the storm is overhead the pressure would fall rapidly, as would the temperat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d speeds would be in excess of 150km/hr and the rain would be torrent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ind would whip up waves that could swamp entire coastal areas, or drown entire coral islands in the Pacif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ye of the storm is overhea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es are clear, the temperature and pressure increase, and the wind dies dow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fortunately this is only a brief lull in the stor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torm hits agai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mperature and pressure fal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rrential rain and wind speeds of over 100km/hr occu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inds are now coming form the opposite direction than they were bef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he storm the temperature and pressure rise agai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ain becomes showers, and the winds die dow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ean up operation begin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23:39:28Z</dcterms:created>
  <dc:creator>Dell_02</dc:creator>
  <dc:description/>
  <dc:language>en-US</dc:language>
  <cp:lastModifiedBy>Dell_02</cp:lastModifiedBy>
  <dcterms:modified xsi:type="dcterms:W3CDTF">2011-01-27T23:55:18Z</dcterms:modified>
  <cp:revision>2</cp:revision>
  <dc:subject/>
  <dc:title>Tropical Storms</dc:title>
</cp:coreProperties>
</file>